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-6470640"/>
            <a:ext cx="360" cy="143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EB6-A257-4C3A-BBDB-CE414783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4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633-AEAD-460F-82C3-5F3DB081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36C-5302-4567-B90A-B2DA7274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440"/>
            <a:ext cx="26474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025-6DC2-4B78-B224-E5021F7B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90E-E416-4565-A1E4-DBC27155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AA5-C7CD-40C0-AADC-C6455E0E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64A-17B8-492E-ACCB-14D3B84A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60B-9AB7-4C9F-BB5D-65BA4C8C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008-D569-477F-9DA0-664F4631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7AC-630F-45F8-B249-E7E30379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4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D18-35E0-4E21-8594-29D2241E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8223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E37-370E-4D8D-9FC7-765C4E70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2298C1-805A-4302-8D38-96E80D7A27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7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journée dans la vie d’Homer Simp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063680"/>
            <a:ext cx="6400800" cy="17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2271600" cy="2352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427640" y="404640"/>
            <a:ext cx="47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journée dans la vie d’Homer Simp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7920" y="-179280"/>
            <a:ext cx="8362800" cy="58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verbs were different?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Can you think of anything that might be common between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76720" y="6126120"/>
            <a:ext cx="54100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1919520" cy="19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07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DR &amp; MRS VAN DER TR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1120" y="870120"/>
            <a:ext cx="82296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here are certain verbs in the passé composé which take être as their auxillary verb instead of avoir                                                                        What other verbs use être as their auxillar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hese are verbs that are to do with movement (e.g. aller, retourner, venir, sortir)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700360" y="41403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1920" y="29052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.g. Homer est tomb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59562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t’s agree with ê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n verbs take être as their helping verb, it must agree with the person doing th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suis allé(e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 es allé(e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 est al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le est allé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s sommes allé(e)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ous êtes allé(e)(s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s sont al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les sont all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5329080" y="2637000"/>
            <a:ext cx="2622600" cy="31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omer et Bart sont monté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-360360" y="1628640"/>
            <a:ext cx="9504360" cy="43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ge et Maggie sont allé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aux magasins et sont tombé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Comic Sans MS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36018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ggie est resté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281916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r. Nick Riviera est entré et a dit “Bonjour tout le mond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248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r &amp; Mrs. Van Der Tramp is a name we use to remember the verbs that take</a:t>
            </a:r>
            <a:r>
              <a:rPr b="0" lang="en-GB" sz="40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ê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7056360" cy="521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0" y="2276640"/>
            <a:ext cx="2516040" cy="27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verbs that tak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êt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n the passé composé (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GB" sz="24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2400" spc="-1" strike="noStrike">
                <a:solidFill>
                  <a:srgbClr val="9966ff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0066cc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cc00"/>
                </a:solidFill>
                <a:latin typeface="Comic Sans MS"/>
              </a:rPr>
              <a:t>V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66"/>
                </a:solidFill>
                <a:latin typeface="Comic Sans MS"/>
              </a:rPr>
              <a:t>D</a:t>
            </a:r>
            <a:r>
              <a:rPr b="0" lang="en-GB" sz="24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GB" sz="2400" spc="-1" strike="noStrike">
                <a:solidFill>
                  <a:srgbClr val="9966ff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cc"/>
                </a:solidFill>
                <a:latin typeface="Comic Sans MS"/>
              </a:rPr>
              <a:t>T</a:t>
            </a:r>
            <a:r>
              <a:rPr b="0" lang="en-GB" sz="2400" spc="-1" strike="noStrike">
                <a:solidFill>
                  <a:srgbClr val="00cc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9900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m</a:t>
            </a:r>
            <a:r>
              <a:rPr b="0" lang="en-GB" sz="2400" spc="-1" strike="noStrike">
                <a:solidFill>
                  <a:srgbClr val="ff00ff"/>
                </a:solidFill>
                <a:latin typeface="Comic Sans MS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are verbs of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200" y="900000"/>
            <a:ext cx="8893440" cy="70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29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9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cendre (to descend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6633"/>
                </a:solidFill>
                <a:latin typeface="Comic Sans MS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venir (to become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9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trer (to go back)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3366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trer (to enter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urir (to die)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ourner (to return)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9966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venir (to come back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66cc"/>
                </a:solidFill>
                <a:latin typeface="Comic Sans MS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mber (to fall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Comic Sans MS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rtir (to go out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2323dc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ster (to stay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cc00"/>
                </a:solidFill>
                <a:latin typeface="Comic Sans MS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ir (to come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ae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river (to arrive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l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to go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99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ter (to climb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ître (to be born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6633"/>
                </a:solidFill>
                <a:latin typeface="Comic Sans MS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ir (to leave)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only verbs which have an irregular past participle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ître &gt;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né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mourir &gt;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or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(de)/(re)/venir &gt;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v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What are the three ways we would form the other regular p.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846000"/>
                <a:tab algn="l" pos="1295280"/>
                <a:tab algn="l" pos="1744560"/>
                <a:tab algn="l" pos="2193840"/>
                <a:tab algn="l" pos="2643120"/>
                <a:tab algn="l" pos="3092400"/>
                <a:tab algn="l" pos="3541680"/>
                <a:tab algn="l" pos="3990960"/>
                <a:tab algn="l" pos="4440240"/>
                <a:tab algn="l" pos="4889520"/>
                <a:tab algn="l" pos="5338800"/>
                <a:tab algn="l" pos="5788080"/>
                <a:tab algn="l" pos="6237360"/>
                <a:tab algn="l" pos="6686640"/>
                <a:tab algn="l" pos="7137360"/>
                <a:tab algn="l" pos="7585200"/>
                <a:tab algn="l" pos="8034480"/>
                <a:tab algn="l" pos="8483760"/>
                <a:tab algn="l" pos="8933040"/>
                <a:tab algn="l" pos="9381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out d’abord, Homer est allé au Kwik-e-mart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3529080" cy="2752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5651640" y="2276640"/>
            <a:ext cx="23810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that’s all you need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618920"/>
            <a:ext cx="8507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duisez les phrases suiv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le est allée à l’é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us êtes tombée, et vous avez fait mal au gen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suis devenue prof de Franç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m'amusais avec mes copains quand ma mère est 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514600" cy="1881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4"/>
          <p:cNvSpPr/>
          <p:nvPr/>
        </p:nvSpPr>
        <p:spPr>
          <a:xfrm>
            <a:off x="3851280" y="2349360"/>
            <a:ext cx="3529080" cy="649440"/>
          </a:xfrm>
          <a:prstGeom prst="wedgeRoundRectCallout">
            <a:avLst>
              <a:gd name="adj1" fmla="val -96648"/>
              <a:gd name="adj2" fmla="val -8789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oo-ho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7484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a achété les donuts pour son petit dé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2081520" cy="260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20984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l est arrivé au travail, au réacteur nucléaire de Springfield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5003640" y="285264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l est resté au travail, et a travaillé très d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6192720" cy="50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uis, il est rentré  à la maison, pour regarder la télé, et m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55640" y="2954160"/>
            <a:ext cx="3095640" cy="2365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364000" y="2708280"/>
            <a:ext cx="243396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l est sorti de chez lui, et il est entré chez M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2867040" cy="4047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611280" y="2141640"/>
            <a:ext cx="424800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l a bu quelques bières avec Barney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3511800" cy="262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t, finalement, il est rétourné chez lui pour dor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715000" cy="398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yboud-Peron</cp:lastModifiedBy>
  <dcterms:modified xsi:type="dcterms:W3CDTF">2008-08-26T04:23:25Z</dcterms:modified>
  <cp:revision>2</cp:revision>
  <dc:subject/>
  <dc:title>Une journée dans la vie d’Homer Simpson</dc:title>
</cp:coreProperties>
</file>